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8318-15A6-43F6-A99E-DD93A164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E9D5-265F-4B16-976D-DB039E09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0A3-0BE9-4BA5-A33B-C63C54B5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CAA-85C6-4FFF-B5BD-BDAD9856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4D14-A98A-4BED-9144-ECC28082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4C5-8627-4E4D-AF1D-23CC5758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23A-E153-418C-B31F-2EFBEF3C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BCA-F7C1-4ACF-9DC7-3F1DA49E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6854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481-D75D-4D5A-A1D6-63D1C1B9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B0B7-C0EB-4756-8DE4-076337BD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0727-4ABC-4899-B0EF-F0018244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5D52-D757-40C2-9B74-7CE4F81C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66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0F26-3E6E-4629-8D1B-B5DF66667E6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929D-A070-48C9-9BB4-684E74322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logo" descr=""/>
          <p:cNvPicPr/>
          <p:nvPr/>
        </p:nvPicPr>
        <p:blipFill>
          <a:blip r:embed="rId2"/>
          <a:stretch/>
        </p:blipFill>
        <p:spPr>
          <a:xfrm>
            <a:off x="7888320" y="685800"/>
            <a:ext cx="49356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72400" y="13716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gler for aler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Kurs for turneringslede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rondheim 3-5 mai 2002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699F-726B-4663-B139-0C74343896B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C7A1C-105C-452F-AB29-B258B71FD9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Generelt alerteringsprinsipp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Hensikten med å alertere er å vekke motparten slik at de er oppmerksomme på at det avgitte budet inneholder informasjon utover det en kan vente av en ekte melding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Det er viktig å merke seg at det i forskjellige miljøer kan være ulike forventninger til betydningen av meldinger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Det har derfor vist seg utilfredstillende å basere alertering på "ikke vanlig/vanlig".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Reglene fra nå av vil i hovedsak i stedet bli basert på "konvensjonell/ekte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AA0-DB29-4BC7-8FCF-C340CDC414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8B4E6-CF8F-4F5A-8D68-9F810E83B1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va skal alerteres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Hovedregelen er at alle konvensjonelle meldinger skal alerteres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Ekte meldinger der makkeravtalen inneholder vesentlige tilleggsbetydningre ut over hva som følger av den er ekte, skal alerteres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Ekte meldinger der betydningen er betydelig påvirket av andre avtaler, slik at motstanderne ikke uten videre kan trekke de rette slutninger av meldingsforløpet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Ekte meldinger der det kan være rimelig tvil om kravnivået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Åpning sterk 2 kl og Svar på 1-2 NT Stayman 2 kl/3kl skal etter disse regler alerteres,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Pass, Dobler og Redobler skal alerteres, når de ikke er ekte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TL må være svært varsom med å gi erstatning for manglende alert av meldinger som beskrives på forsiden av systemkortet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E84E-66C5-48FB-87F3-57DC8E74C6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4CFED-2E5C-49D7-8EED-8C064EA975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va skal ikke alerteres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0000"/>
                </a:solidFill>
                <a:latin typeface="Times New Roman"/>
              </a:rPr>
              <a:t>Ekte meldinger uten betydelig tilleggsinformasjon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0000"/>
                </a:solidFill>
                <a:latin typeface="Times New Roman"/>
              </a:rPr>
              <a:t>Meldinger over 3 N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66"/>
                </a:solidFill>
                <a:latin typeface="Times New Roman"/>
              </a:rPr>
              <a:t>Unntak:</a:t>
            </a: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90000"/>
                </a:solidFill>
                <a:latin typeface="Times New Roman"/>
              </a:rPr>
              <a:t>konvensjonelle åpninger / innmeldinger i første melderunde.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90000"/>
                </a:solidFill>
                <a:latin typeface="Times New Roman"/>
              </a:rPr>
              <a:t>Det alerteres "helt frem" når det spilles med skjermer.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Hvordan  skal det alerteres?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Banke i borde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Vise alertkortet (evt. legge det over meldekortene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Det er den som alerterer som har ansvaret for at alerten oppfatt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FE9-3961-4F63-95E8-401B9D6109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92CDA-C33D-4F8C-AE35-577EBA37A4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ksempler på meldinger som skal alerteres I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i="1" lang="nb-NO" sz="2000" spc="-1" strike="noStrike">
                <a:solidFill>
                  <a:srgbClr val="990000"/>
                </a:solidFill>
                <a:latin typeface="Times New Roman"/>
              </a:rPr>
              <a:t>Listen nedenfor er illustrerende eksempler til alertreglene, ikke en liste som tilstreber fullstendighet. Følgende skal alerteres: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Åpninger på 1 i farge som kan være på færre enn 3 kort i minor eller 4 kort i major, for eksempel 1 kløver Vienna,  Presisjon eller Beredskapskløv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1 ruter i Presisjonskløv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To kløver som konvensjonelt svar på 1NT åpning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Flerfargemeldinger som Marmic og lignende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To kløveråpning som ikke er ekte, eller som viser tilleggsinfo om andre farger enn kløv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Ny farge som konvensjonelt kan være på færre enn 4 kort</a:t>
            </a:r>
            <a:br>
              <a:rPr sz="2000"/>
            </a:b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(NB mulig 3 kort i minor alerteres ikke, men skal anmerkes på forsiden av systemkortet)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Ny farge som ikke er krav etter motpartens innmelding.1 over 1, 2 over 1 og hoppmeldinger i ny farge som ikke er krav i et uforstyrret meldingsforløp</a:t>
            </a:r>
            <a:r>
              <a:rPr b="0" i="1" lang="nb-NO" sz="18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541-3708-4D4E-89F9-BB0356196ADA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E98FE-D46B-4ABC-8099-D0BAE65CCB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ksempler på meldinger som skal alerteres II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1NT åpning som kan være svakere enn en gjennomsnittshånd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Omvendte minorhøyning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Hopp i makkers innmeldte farge som er sper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Alle meldinger etter motstandernes opplysende dobling som er krav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Grandåpninger som ikke viser en balansert eller semibalansert hånd eller som garanterer lengde i minst en bestemt farg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Alle åpninger som viser eller kan vise minst 4 kort i mer enn en farge. Eks :2kl i Presisjon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Alert for sikkerhets skyl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En melding som en ikke er sikker på om er ekte eller konvensjonell bør alerteres for sikkerhets skyl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Denne usikkerheten er UI  for den som har avgitt meldinge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1978-5DA2-4C0D-B28B-FCE39CF09CF9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719AF-66FD-4F48-A61B-45DE05C286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lert og straffebestemmelser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Manglende alert og alert i utide er feil forklaring overfor motparten og UI for makker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rsom motparten blir skadelidende på grunn av feil forklaring eller bruk av UI fastsettes en justert scor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t er ikke prosedyrestraff for manglende alert eller alert i utid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656-3DDC-4FE7-A377-70DE0607A6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4C569-A98A-453F-90DA-148A48A87B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23:08:40Z</dcterms:created>
  <dc:creator>Per Nordland</dc:creator>
  <dc:description/>
  <dc:language>en-US</dc:language>
  <cp:lastModifiedBy>Per Nordland</cp:lastModifiedBy>
  <dcterms:modified xsi:type="dcterms:W3CDTF">2002-06-01T20:36:20Z</dcterms:modified>
  <cp:revision>9</cp:revision>
  <dc:subject/>
  <dc:title>Regler for alert</dc:title>
</cp:coreProperties>
</file>